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0B8-9121-485B-A9FF-468702ED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F65-94C9-47C3-806B-F159B75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45D-E544-43FB-AE6F-0F2CF0DB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954-D6C0-4C38-B503-AA067B65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DB2-5B9A-4A67-B11D-8881D35F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DF9C-36D4-4332-89F0-2E1B181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2334-D2CB-4D11-923D-22E74AB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2BD-DA87-4E8C-94CF-CB5A8B4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D17B-EA2C-4127-A5FA-101C87F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8884-86D0-42D9-86B9-9CC54CB9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DA7C-B88C-4BF5-B773-61BF56D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79F-A837-4F5E-BB91-AD6CCA0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139-3043-4FF2-9044-96EDA58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45B-A80F-4AEA-AAA3-958A643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30F5-AABD-40FB-A5EB-4A743E07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EB99-AB7B-4A15-A8D1-9C4FC84B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C2B8-3004-4024-90AA-371CBCA8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D9A-C167-4D64-92F6-A2E5AC8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879-C96A-41E3-B72D-45E7E12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F13-F415-4169-9D38-082D231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513-B3FD-4361-8859-12FF290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BCB-70EA-4118-8C82-CF7C2E5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045-CD8A-454E-B0FE-3D898DB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9BD-0E1B-40E3-9FC0-4F1C6AD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D605-CD69-41F6-850C-142521167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280"/>
                        <a:gd name="textAreaBottom" fmla="*/ 413640 h 413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50160"/>
                        <a:gd name="textAreaBottom" fmla="*/ 650520 h 650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custGeom>
                      <a:avLst/>
                      <a:gdLst>
                        <a:gd name="textAreaLeft" fmla="*/ 0 w 1358280"/>
                        <a:gd name="textAreaRight" fmla="*/ 1358280 w 1358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custGeom>
                    <a:avLst/>
                    <a:gdLst>
                      <a:gd name="textAreaLeft" fmla="*/ 0 w 1265760"/>
                      <a:gd name="textAreaRight" fmla="*/ 1265760 w 126576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custGeom>
                    <a:avLst/>
                    <a:gdLst>
                      <a:gd name="textAreaLeft" fmla="*/ 360 w 681120"/>
                      <a:gd name="textAreaRight" fmla="*/ 681840 w 68112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custGeom>
                      <a:avLst/>
                      <a:gdLst>
                        <a:gd name="textAreaLeft" fmla="*/ 0 w 1310040"/>
                        <a:gd name="textAreaRight" fmla="*/ 1310400 w 131004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custGeom>
                      <a:avLst/>
                      <a:gdLst>
                        <a:gd name="textAreaLeft" fmla="*/ 0 w 767160"/>
                        <a:gd name="textAreaRight" fmla="*/ 767520 w 76716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custGeom>
                      <a:avLst/>
                      <a:gdLst>
                        <a:gd name="textAreaLeft" fmla="*/ 0 w 1176480"/>
                        <a:gd name="textAreaRight" fmla="*/ 1176840 w 117648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custGeom>
                      <a:avLst/>
                      <a:gdLst>
                        <a:gd name="textAreaLeft" fmla="*/ 360 w 1888560"/>
                        <a:gd name="textAreaRight" fmla="*/ 1889280 w 18885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custGeom>
                      <a:avLst/>
                      <a:gdLst>
                        <a:gd name="textAreaLeft" fmla="*/ -360 w 1012680"/>
                        <a:gd name="textAreaRight" fmla="*/ 1012680 w 101268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custGeom>
                      <a:avLst/>
                      <a:gdLst>
                        <a:gd name="textAreaLeft" fmla="*/ 0 w 2032560"/>
                        <a:gd name="textAreaRight" fmla="*/ 2032920 w 203256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custGeom>
                      <a:avLst/>
                      <a:gdLst>
                        <a:gd name="textAreaLeft" fmla="*/ 0 w 1089000"/>
                        <a:gd name="textAreaRight" fmla="*/ 1089360 w 108900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custGeom>
                      <a:avLst/>
                      <a:gdLst>
                        <a:gd name="textAreaLeft" fmla="*/ 0 w 1972440"/>
                        <a:gd name="textAreaRight" fmla="*/ 1972800 w 19724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custGeom>
                      <a:avLst/>
                      <a:gdLst>
                        <a:gd name="textAreaLeft" fmla="*/ 0 w 974520"/>
                        <a:gd name="textAreaRight" fmla="*/ 974880 w 97452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5040"/>
                      <a:gd name="textAreaBottom" fmla="*/ 2525760 h 252504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5440"/>
                      <a:gd name="textAreaBottom" fmla="*/ 2935800 h 293544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920"/>
                      <a:gd name="textAreaBottom" fmla="*/ 2843280 h 28429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E44-836C-4164-8E5C-EF340648028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Succ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something were to happen to the President of the United States, the Presidential line of succession i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ce-President of the United St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eaker of the Ho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President Pro Tempore of the Sen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ccession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 President Pro Tempore, the line of succession goes to the Presidential cabinet secretary in the order that their executive office was create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begins with the Secretary of State and would end with the Secretary of Homeland Securi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ticle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rticle 2 of the United States Constitution established the executive branch of government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President is the head of the executive branch of government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 Bar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4" descr="obama_portrait_146px"/>
          <p:cNvPicPr/>
          <p:nvPr/>
        </p:nvPicPr>
        <p:blipFill>
          <a:blip r:embed="rId1"/>
          <a:stretch/>
        </p:blipFill>
        <p:spPr>
          <a:xfrm>
            <a:off x="3429000" y="274320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itutional Qualific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outlines three qualifications to serve as the President of the United Sta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t least 35 years of a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 natural born citiz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 resident of the United States for at least 14 yea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Vice-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onstitution specifies that the qualifications to serve as Vice-President are identical to those required to serve as Presid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ce President Joe Bid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10" descr="joe biden"/>
          <p:cNvPicPr/>
          <p:nvPr/>
        </p:nvPicPr>
        <p:blipFill>
          <a:blip r:embed="rId1"/>
          <a:stretch/>
        </p:blipFill>
        <p:spPr>
          <a:xfrm>
            <a:off x="3657600" y="1828800"/>
            <a:ext cx="1504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Term(s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ial term is 4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 is limited to serving two four year term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 is also limited to serving no more than 10 years as President of the United States. (2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mendmen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El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sident’s are elected every four years through indirect voting and through the meeting of a group of people that elect the President and Vice-President called the Electoral Colleg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ennessee has 11 electoral vo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57:31Z</dcterms:created>
  <dc:creator>Sys Admin</dc:creator>
  <dc:description/>
  <dc:language>en-US</dc:language>
  <cp:lastModifiedBy>SysAdmin</cp:lastModifiedBy>
  <dcterms:modified xsi:type="dcterms:W3CDTF">2010-10-08T12:32:22Z</dcterms:modified>
  <cp:revision>34</cp:revision>
  <dc:subject/>
  <dc:title>Unit 3</dc:title>
</cp:coreProperties>
</file>